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E4D-8C3B-4F1A-BF04-9F819ABE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FA1-939B-4631-8CFE-173CB613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B9C-9205-4298-9842-1F2E0A2C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B33-D013-4650-97DB-BA62A154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CAF0-F157-4D67-B4FD-8E7A0EE3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73FD-B6BC-4A56-A45B-66AB6387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72F6-5B8C-402B-BCEA-0E663606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2FF-1F0F-446C-8D7F-42242A36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00A2-CDC0-4872-BF4B-EF94B069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7D69-8A51-4416-B9A8-C68C6CD6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1EE3-E954-4C80-96E7-EE81C0FA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7A9-650F-4ACE-956D-6FB4A17F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650F-443B-4756-A729-913AD371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8EA8-2E96-4032-93C7-9C5AA13F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3F89-C642-4CFB-A340-CBF23F23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1444-68CA-404F-B817-B58C91BE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A7C4-1D95-4A01-904F-63498890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E99-0FC5-4E1D-9C8B-E280B803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FDC-155C-4060-A7FC-DFA772D5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E4E-87FA-4C1C-9DDA-91559CBA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020-26A3-45B3-8CB1-EB558782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0C0-68A5-4694-8811-2C03102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9DB-76BA-4A4D-811D-ED5F33D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F46-71D3-42C9-983C-5678458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1234-61FE-4A75-8E23-0008D747DE4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40C3-D66D-45C3-954D-F28A4C0548D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197701770169" descr="Italian family on ferry 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197701770007" descr="From Sicil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67280"/>
          </a:xfrm>
          <a:prstGeom prst="rect">
            <a:avLst/>
          </a:prstGeom>
          <a:ln w="0">
            <a:noFill/>
          </a:ln>
        </p:spPr>
      </p:pic>
      <p:pic>
        <p:nvPicPr>
          <p:cNvPr id="110" name="m197701770031" descr="Italians at Ellis Island.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m197701770013" descr="A group of German immigra"/>
          <p:cNvPicPr/>
          <p:nvPr/>
        </p:nvPicPr>
        <p:blipFill>
          <a:blip r:embed="rId1"/>
          <a:stretch/>
        </p:blipFill>
        <p:spPr>
          <a:xfrm>
            <a:off x="0" y="0"/>
            <a:ext cx="9144000" cy="6586560"/>
          </a:xfrm>
          <a:prstGeom prst="rect">
            <a:avLst/>
          </a:prstGeom>
          <a:ln w="0">
            <a:noFill/>
          </a:ln>
        </p:spPr>
      </p:pic>
      <p:pic>
        <p:nvPicPr>
          <p:cNvPr id="112" name="m197701770112" descr="Bohemian. Ellis Island (J"/>
          <p:cNvPicPr/>
          <p:nvPr/>
        </p:nvPicPr>
        <p:blipFill>
          <a:blip r:embed="rId2"/>
          <a:stretch/>
        </p:blipFill>
        <p:spPr>
          <a:xfrm>
            <a:off x="0" y="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38240" y="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4" name="m197701770040" descr="Climbing Into America. El"/>
          <p:cNvPicPr/>
          <p:nvPr/>
        </p:nvPicPr>
        <p:blipFill>
          <a:blip r:embed="rId1"/>
          <a:stretch/>
        </p:blipFill>
        <p:spPr>
          <a:xfrm>
            <a:off x="181764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14640" y="-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6" name="m197701770125" descr="Ellis Island, Italian Mad"/>
          <p:cNvPicPr/>
          <p:nvPr/>
        </p:nvPicPr>
        <p:blipFill>
          <a:blip r:embed="rId1"/>
          <a:stretch/>
        </p:blipFill>
        <p:spPr>
          <a:xfrm>
            <a:off x="2247840" y="0"/>
            <a:ext cx="47815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m197701770129" descr="Italian mother &amp; child at"/>
          <p:cNvPicPr/>
          <p:nvPr/>
        </p:nvPicPr>
        <p:blipFill>
          <a:blip r:embed="rId2"/>
          <a:stretch/>
        </p:blipFill>
        <p:spPr>
          <a:xfrm>
            <a:off x="1828800" y="0"/>
            <a:ext cx="55101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395px-Madonna_and_Child_(Filippo_Lippi)" descr=""/>
          <p:cNvPicPr/>
          <p:nvPr/>
        </p:nvPicPr>
        <p:blipFill>
          <a:blip r:embed="rId3"/>
          <a:srcRect l="0" t="14303" r="0" b="0"/>
          <a:stretch/>
        </p:blipFill>
        <p:spPr>
          <a:xfrm>
            <a:off x="1828800" y="0"/>
            <a:ext cx="55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28680" y="-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m197701770134" descr="Italian family looking fo"/>
          <p:cNvPicPr/>
          <p:nvPr/>
        </p:nvPicPr>
        <p:blipFill>
          <a:blip r:embed="rId1"/>
          <a:srcRect l="0" t="10641" r="0" b="0"/>
          <a:stretch/>
        </p:blipFill>
        <p:spPr>
          <a:xfrm>
            <a:off x="213372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m197701770043" descr="A representative from one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197701770030" descr="Ellis Island (Children 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m197701810011" descr="Some of the so-called he"/>
          <p:cNvPicPr/>
          <p:nvPr/>
        </p:nvPicPr>
        <p:blipFill>
          <a:blip r:embed="rId2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pic>
        <p:nvPicPr>
          <p:cNvPr id="124" name="m197701860022" descr="Breaker boys in coal mine"/>
          <p:cNvPicPr/>
          <p:nvPr/>
        </p:nvPicPr>
        <p:blipFill>
          <a:blip r:embed="rId3"/>
          <a:stretch/>
        </p:blipFill>
        <p:spPr>
          <a:xfrm>
            <a:off x="152280" y="23760"/>
            <a:ext cx="87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39:38Z</dcterms:created>
  <dc:creator>Authorized User</dc:creator>
  <dc:description/>
  <dc:language>en-US</dc:language>
  <cp:lastModifiedBy>Authorized User</cp:lastModifiedBy>
  <dcterms:modified xsi:type="dcterms:W3CDTF">2007-10-19T12:13:35Z</dcterms:modified>
  <cp:revision>1</cp:revision>
  <dc:subject/>
  <dc:title>PowerPoint Presentation</dc:title>
</cp:coreProperties>
</file>